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94A38-F6B3-4F51-824F-F244D1130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6A13D-607E-4775-A246-92B1678A0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832D3-CAE6-4E2D-96B5-05CF02113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33D10-25C7-4578-9FEF-35626C9C1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0DA2D-F14D-47F8-9A56-86F66E51D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A80E5-4340-4BC8-A748-1CA2703EE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B7F3F-F666-4A1D-A534-273ECF4DC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15317-69B2-46AC-BCAF-9D65DBB3E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A084F-9659-4BF9-9DDB-889E91E7C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289E1-0B54-406C-86D2-A289F0FEB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4CF08-8D57-4B1D-ACE7-32BDCB069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C47A-633A-4D20-99DE-74EEB8E7E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FDA2E-18CB-4EB2-A3CA-C88F9898A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9CF62-218D-4219-99E2-95BF64FB4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E99C6-0888-469F-9C11-42290D88E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D0DE8-9E79-414A-99A0-3805C0414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9A188-51B0-477A-BEE7-181616E08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A5135D-6CD0-4DC2-B893-7FF91F6279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C9DE03-1E7D-43CF-B90F-C47F4A46CA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EEB4D-D313-40B6-BF9C-26C35D4BE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47AC74-2FF9-4C0E-9142-69EE2671B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49A97-CDD5-4356-890C-A876C465C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7ACE3-8D39-45B2-A414-A081C9F78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CD6C6-1BFD-4A4A-8B0D-74BC19302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E9FB5-4BAA-45CB-A97E-7FFE5392B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9189D-9AB7-49ED-881A-CC46126B1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5A16B-8749-44A7-B8AC-A16ECACEB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B395BF-DC42-4135-B2DB-58F401EDC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1C17D-D64D-4C50-8E53-BFD76FF3DB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FBB02-E318-4901-AB06-A8BB083A6C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3697C-2F28-42E5-A472-49063678B4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8BC494-91C7-4BC2-B56E-14C153D34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6B44A-2F93-4425-85D9-7D08501CE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D496C-7A53-4569-BC9E-E043EDDEA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D9FCB-0E4F-4BB7-A29F-50A60DC49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0E603-3DD9-4BB0-B55C-401F55A3E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74EBF-BBF0-47B2-BC96-A4391D51BD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67618-4AB8-4F6C-8FCC-DAD1412C5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1276D-7112-4787-AC1F-41558D676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CE7C3-A319-4098-80A9-38FA649B6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DE7D6E-72F0-4CC4-8F00-0150014DC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A9F760-3480-465D-9F4B-9063DCCBD9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E85F1-7E60-48CB-8A9E-C5EF961D7E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F4552F-B876-42FB-9F66-E421605A0D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CDEFE-63A0-4938-8BC5-DDEC4A53B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CE444-FB8C-4F17-A7B9-3295B5FE1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E64B5-A129-4487-AC83-E57C60043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3FA152-E76E-41A2-B1B9-41232C3272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82925-DAD0-4679-99E0-55F756573A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C627EC-4DE5-400B-A381-9772AB855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8CF0C-CE77-4FA0-B9A6-546D0C8CF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169FD-D38B-4220-A772-3BAF5718D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8577E-1EB9-4983-9E73-AECD8BE4B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FF452-35B6-4840-B83C-9C84FD2A9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43E75F-F413-4EFB-8E3F-3462C617FD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2E56A-394A-4726-B621-CCA064A4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F6CF6A-6156-4B03-9D6E-313A0ACFB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22678A-CB8E-42AD-835B-91FF200E7B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DAC446-7737-448F-BFFD-6F871E6D13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D84024-7400-41C8-87B6-52C35A0880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039F5A-ABA7-4FB2-8C27-8D64BED56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0E952-2BE8-4732-A970-CCA5F30E5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DF37B-2F06-4F83-B2BD-8CDE59324D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D802D-7EEA-44F4-8BC4-7051711AD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BE8FD-A0EA-4E35-8E92-B2FD389EA7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FC8F6-B584-47F2-A4EC-0EF352E4F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62447-9D47-425A-A219-31E083CC0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EF23A-4998-4C89-9C03-A1B065BEC6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C1B3DA-35A4-4CFC-B04C-AA0FC4C914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5F4C39-7508-41E2-9E9A-5D357C9C93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B35DF-6C4D-4BC1-A995-D251574E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5C35-0814-47F3-8D78-828360A7F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m 2" descr=""/>
          <p:cNvPicPr/>
          <p:nvPr/>
        </p:nvPicPr>
        <p:blipFill>
          <a:blip r:embed="rId2"/>
          <a:stretch/>
        </p:blipFill>
        <p:spPr>
          <a:xfrm>
            <a:off x="12600" y="0"/>
            <a:ext cx="12166560" cy="6858000"/>
          </a:xfrm>
          <a:prstGeom prst="rect">
            <a:avLst/>
          </a:prstGeom>
          <a:ln w="0">
            <a:noFill/>
          </a:ln>
        </p:spPr>
      </p:pic>
      <p:sp>
        <p:nvSpPr>
          <p:cNvPr id="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3D2D-0E21-4853-A811-7EE4AC8050A9}" type="datetime">
              <a:rPr b="0" lang="pt-BR" sz="1200" spc="-1" strike="noStrike">
                <a:solidFill>
                  <a:srgbClr val="898989"/>
                </a:solidFill>
                <a:latin typeface="Calibri"/>
              </a:rPr>
              <a:t>31/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3B35-7942-442B-84D8-2FA68C3F2086}"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m 2" descr=""/>
          <p:cNvPicPr/>
          <p:nvPr/>
        </p:nvPicPr>
        <p:blipFill>
          <a:blip r:embed="rId2"/>
          <a:stretch/>
        </p:blipFill>
        <p:spPr>
          <a:xfrm>
            <a:off x="12600" y="0"/>
            <a:ext cx="12166560" cy="6858000"/>
          </a:xfrm>
          <a:prstGeom prst="rect">
            <a:avLst/>
          </a:prstGeom>
          <a:ln w="0">
            <a:noFill/>
          </a:ln>
        </p:spPr>
      </p:pic>
      <p:sp>
        <p:nvSpPr>
          <p:cNvPr id="4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89BB-8567-4FF7-BD10-044D0DEE4CE3}" type="datetime">
              <a:rPr b="0" lang="pt-BR" sz="1200" spc="-1" strike="noStrike">
                <a:solidFill>
                  <a:srgbClr val="898989"/>
                </a:solidFill>
                <a:latin typeface="Calibri"/>
              </a:rPr>
              <a:t>31/07/26</a:t>
            </a:fld>
            <a:endParaRPr b="0" lang="en-US" sz="1200" spc="-1" strike="noStrike">
              <a:solidFill>
                <a:srgbClr val="000000"/>
              </a:solidFill>
              <a:latin typeface="Arial"/>
            </a:endParaRPr>
          </a:p>
        </p:txBody>
      </p:sp>
      <p:sp>
        <p:nvSpPr>
          <p:cNvPr id="46"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6835-0E8D-46DC-A9A3-74E499A12123}" type="slidenum">
              <a:rPr b="1"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m 2" descr=""/>
          <p:cNvPicPr/>
          <p:nvPr/>
        </p:nvPicPr>
        <p:blipFill>
          <a:blip r:embed="rId2"/>
          <a:stretch/>
        </p:blipFill>
        <p:spPr>
          <a:xfrm>
            <a:off x="12600" y="0"/>
            <a:ext cx="12166560" cy="6858000"/>
          </a:xfrm>
          <a:prstGeom prst="rect">
            <a:avLst/>
          </a:prstGeom>
          <a:ln w="0">
            <a:noFill/>
          </a:ln>
        </p:spPr>
      </p:pic>
      <p:sp>
        <p:nvSpPr>
          <p:cNvPr id="8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415A-BBD3-41E9-A2C6-45DDAF2F42B2}" type="datetime">
              <a:rPr b="0" lang="pt-BR" sz="1200" spc="-1" strike="noStrike">
                <a:solidFill>
                  <a:srgbClr val="898989"/>
                </a:solidFill>
                <a:latin typeface="Calibri"/>
              </a:rPr>
              <a:t>31/07/26</a:t>
            </a:fld>
            <a:endParaRPr b="0" lang="en-US" sz="1200" spc="-1" strike="noStrike">
              <a:solidFill>
                <a:srgbClr val="000000"/>
              </a:solidFill>
              <a:latin typeface="Arial"/>
            </a:endParaRPr>
          </a:p>
        </p:txBody>
      </p:sp>
      <p:sp>
        <p:nvSpPr>
          <p:cNvPr id="88"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799C-1A70-4E12-AEDC-165C7FBEFF9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m 2" descr=""/>
          <p:cNvPicPr/>
          <p:nvPr/>
        </p:nvPicPr>
        <p:blipFill>
          <a:blip r:embed="rId2"/>
          <a:stretch/>
        </p:blipFill>
        <p:spPr>
          <a:xfrm>
            <a:off x="12600" y="0"/>
            <a:ext cx="12166560" cy="6858000"/>
          </a:xfrm>
          <a:prstGeom prst="rect">
            <a:avLst/>
          </a:prstGeom>
          <a:ln w="0">
            <a:noFill/>
          </a:ln>
        </p:spPr>
      </p:pic>
      <p:sp>
        <p:nvSpPr>
          <p:cNvPr id="12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BB44-EE8B-48A6-AA6D-06934503AD05}" type="datetime">
              <a:rPr b="0" lang="pt-BR" sz="1200" spc="-1" strike="noStrike">
                <a:solidFill>
                  <a:srgbClr val="898989"/>
                </a:solidFill>
                <a:latin typeface="Calibri"/>
              </a:rPr>
              <a:t>31/07/26</a:t>
            </a:fld>
            <a:endParaRPr b="0" lang="en-US" sz="1200" spc="-1" strike="noStrike">
              <a:solidFill>
                <a:srgbClr val="000000"/>
              </a:solidFill>
              <a:latin typeface="Arial"/>
            </a:endParaRPr>
          </a:p>
        </p:txBody>
      </p:sp>
      <p:sp>
        <p:nvSpPr>
          <p:cNvPr id="130"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9917-5D67-4F60-8DFD-1775E265AA1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Imagem 2" descr=""/>
          <p:cNvPicPr/>
          <p:nvPr/>
        </p:nvPicPr>
        <p:blipFill>
          <a:blip r:embed="rId2"/>
          <a:stretch/>
        </p:blipFill>
        <p:spPr>
          <a:xfrm>
            <a:off x="12600" y="0"/>
            <a:ext cx="12166560" cy="6858000"/>
          </a:xfrm>
          <a:prstGeom prst="rect">
            <a:avLst/>
          </a:prstGeom>
          <a:ln w="0">
            <a:noFill/>
          </a:ln>
        </p:spPr>
      </p:pic>
      <p:sp>
        <p:nvSpPr>
          <p:cNvPr id="169" name="Retângulo 7"/>
          <p:cNvSpPr/>
          <p:nvPr/>
        </p:nvSpPr>
        <p:spPr>
          <a:xfrm>
            <a:off x="11106000" y="6356520"/>
            <a:ext cx="384480" cy="501480"/>
          </a:xfrm>
          <a:prstGeom prst="rect">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5E50-0D2D-4260-8EC1-AB3C0F8E8B8E}" type="datetime">
              <a:rPr b="0" lang="pt-BR" sz="1200" spc="-1" strike="noStrike">
                <a:solidFill>
                  <a:srgbClr val="898989"/>
                </a:solidFill>
                <a:latin typeface="Calibri"/>
              </a:rPr>
              <a:t>31/07/26</a:t>
            </a:fld>
            <a:endParaRPr b="0" lang="en-US" sz="1200" spc="-1" strike="noStrike">
              <a:solidFill>
                <a:srgbClr val="000000"/>
              </a:solidFill>
              <a:latin typeface="Arial"/>
            </a:endParaRPr>
          </a:p>
        </p:txBody>
      </p:sp>
      <p:sp>
        <p:nvSpPr>
          <p:cNvPr id="173"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E0F4-7C93-4F6A-9285-9797EDDACEB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Imagem 2" descr=""/>
          <p:cNvPicPr/>
          <p:nvPr/>
        </p:nvPicPr>
        <p:blipFill>
          <a:blip r:embed="rId2"/>
          <a:stretch/>
        </p:blipFill>
        <p:spPr>
          <a:xfrm>
            <a:off x="12600" y="0"/>
            <a:ext cx="12166560" cy="6858000"/>
          </a:xfrm>
          <a:prstGeom prst="rect">
            <a:avLst/>
          </a:prstGeom>
          <a:ln w="0">
            <a:noFill/>
          </a:ln>
        </p:spPr>
      </p:pic>
      <p:sp>
        <p:nvSpPr>
          <p:cNvPr id="21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3"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8BC2-1F0D-4AD7-9748-2BCF1D2FB8CB}" type="datetime">
              <a:rPr b="0" lang="pt-BR" sz="1200" spc="-1" strike="noStrike">
                <a:solidFill>
                  <a:srgbClr val="898989"/>
                </a:solidFill>
                <a:latin typeface="Calibri"/>
              </a:rPr>
              <a:t>31/07/26</a:t>
            </a:fld>
            <a:endParaRPr b="0" lang="en-US" sz="1200" spc="-1" strike="noStrike">
              <a:solidFill>
                <a:srgbClr val="000000"/>
              </a:solidFill>
              <a:latin typeface="Arial"/>
            </a:endParaRPr>
          </a:p>
        </p:txBody>
      </p:sp>
      <p:sp>
        <p:nvSpPr>
          <p:cNvPr id="215"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3F20-9FEF-4F8C-9DE9-9C20ED15F27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3"/>
          <p:cNvSpPr/>
          <p:nvPr/>
        </p:nvSpPr>
        <p:spPr>
          <a:xfrm>
            <a:off x="263520" y="920880"/>
            <a:ext cx="11665080" cy="476856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Calibri"/>
              </a:rPr>
              <a:t>ANUÁRIO ESTATÍSTICO DE ACIDENTES DE TRABALHO – 2017</a:t>
            </a:r>
            <a:endParaRPr b="0" lang="en-US" sz="4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7f7f7f"/>
                </a:solidFill>
                <a:latin typeface="Calibri"/>
              </a:rPr>
              <a:t>PRINCIPAIS RESULTADOS</a:t>
            </a:r>
            <a:endParaRPr b="0" lang="en-US" sz="5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Brasília, setembro de 2018</a:t>
            </a:r>
            <a:endParaRPr b="0" lang="en-US" sz="2400" spc="-1" strike="noStrike">
              <a:solidFill>
                <a:srgbClr val="000000"/>
              </a:solidFill>
              <a:latin typeface="Arial"/>
            </a:endParaRPr>
          </a:p>
        </p:txBody>
      </p:sp>
      <p:sp>
        <p:nvSpPr>
          <p:cNvPr id="254" name="Rectangle 4"/>
          <p:cNvSpPr/>
          <p:nvPr/>
        </p:nvSpPr>
        <p:spPr>
          <a:xfrm>
            <a:off x="1955880" y="6129360"/>
            <a:ext cx="828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RGPS – Subsecretaria do Regime Geral de Previdência Soci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GEDA – Coordenação-Geral de Estatística, Demografia e Atuári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participação de acidentes do trabalho sem CAT registrada apresentaram tendência de queda a partir de 2009, estabilizando-se entre 2015 e 2017 em torno de 18% do total</a:t>
            </a:r>
            <a:endParaRPr b="0" lang="en-US" sz="1600" spc="-1" strike="noStrike">
              <a:solidFill>
                <a:srgbClr val="000000"/>
              </a:solidFill>
              <a:latin typeface="Arial"/>
            </a:endParaRPr>
          </a:p>
        </p:txBody>
      </p:sp>
      <p:pic>
        <p:nvPicPr>
          <p:cNvPr id="269" name="Imagem 2" descr=""/>
          <p:cNvPicPr/>
          <p:nvPr/>
        </p:nvPicPr>
        <p:blipFill>
          <a:blip r:embed="rId1"/>
          <a:stretch/>
        </p:blipFill>
        <p:spPr>
          <a:xfrm>
            <a:off x="2143080" y="876240"/>
            <a:ext cx="7804080" cy="487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antidade observada de acidentes do trabalho com CAT registrada em 2017 apresentou nova queda, renovando a mínima da série histórica desde 2006.</a:t>
            </a:r>
            <a:endParaRPr b="0" lang="en-US" sz="1600" spc="-1" strike="noStrike">
              <a:solidFill>
                <a:srgbClr val="000000"/>
              </a:solidFill>
              <a:latin typeface="Arial"/>
            </a:endParaRPr>
          </a:p>
        </p:txBody>
      </p:sp>
      <p:pic>
        <p:nvPicPr>
          <p:cNvPr id="271" name="Imagem 2" descr=""/>
          <p:cNvPicPr/>
          <p:nvPr/>
        </p:nvPicPr>
        <p:blipFill>
          <a:blip r:embed="rId1"/>
          <a:stretch/>
        </p:blipFill>
        <p:spPr>
          <a:xfrm>
            <a:off x="2182680" y="865080"/>
            <a:ext cx="7826400" cy="488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1523880" y="5943600"/>
            <a:ext cx="91440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antidade dos Acidentes do Trabalho por Trajeto em 2017 retomou a tendência de queda interrompida no ano anterior, retornando ao nível observado em 2011.</a:t>
            </a:r>
            <a:endParaRPr b="0" lang="en-US" sz="1600" spc="-1" strike="noStrike">
              <a:solidFill>
                <a:srgbClr val="000000"/>
              </a:solidFill>
              <a:latin typeface="Arial"/>
            </a:endParaRPr>
          </a:p>
        </p:txBody>
      </p:sp>
      <p:pic>
        <p:nvPicPr>
          <p:cNvPr id="273" name="Imagem 1" descr=""/>
          <p:cNvPicPr/>
          <p:nvPr/>
        </p:nvPicPr>
        <p:blipFill>
          <a:blip r:embed="rId1"/>
          <a:stretch/>
        </p:blipFill>
        <p:spPr>
          <a:xfrm>
            <a:off x="1992240" y="1125360"/>
            <a:ext cx="7677360" cy="478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34800" y="5975280"/>
            <a:ext cx="115221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O conjunto dessas seis atividades representa 23,2% do total de acidentes do trabalho em 2017. Transporte Rodoviário de Cargas passou Atividades de Correios e agora ocupa a 4ª posição. Abate de Suínos, Aves e Pequenos Animais passou a ocupar a sexta posição, retirando Construção de Edifícios da lista.</a:t>
            </a:r>
            <a:endParaRPr b="0" lang="en-US" sz="1600" spc="-1" strike="noStrike">
              <a:solidFill>
                <a:srgbClr val="000000"/>
              </a:solidFill>
              <a:latin typeface="Arial"/>
            </a:endParaRPr>
          </a:p>
        </p:txBody>
      </p:sp>
      <p:sp>
        <p:nvSpPr>
          <p:cNvPr id="275"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AS SEIS PRIMEIRAS CNAE POR QUANTIDADE DE ACIDENTES DO TRABALHO EM 2017</a:t>
            </a:r>
            <a:endParaRPr b="0" lang="en-US" sz="2400" spc="-1" strike="noStrike">
              <a:solidFill>
                <a:srgbClr val="000000"/>
              </a:solidFill>
              <a:latin typeface="Arial"/>
            </a:endParaRPr>
          </a:p>
        </p:txBody>
      </p:sp>
      <p:pic>
        <p:nvPicPr>
          <p:cNvPr id="276" name="Imagem 6" descr=""/>
          <p:cNvPicPr/>
          <p:nvPr/>
        </p:nvPicPr>
        <p:blipFill>
          <a:blip r:embed="rId1"/>
          <a:stretch/>
        </p:blipFill>
        <p:spPr>
          <a:xfrm>
            <a:off x="2386080" y="1693800"/>
            <a:ext cx="7419960" cy="42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523880" y="981000"/>
            <a:ext cx="9144000" cy="562824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do trabalho liquidados são aqueles cujos processos foram administrativamente encerrados pelo INSS e classificados pela consequência em:</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Simples Assistência Médica;</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com afastamento inferior a 15 dias;</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com afastamento Superior a 15 dias;</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Permanent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Óbit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1523880" y="6165720"/>
            <a:ext cx="91440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Foram 572.169 acidentes do trabalho liquidados em 2017, dos quais 72,5% tiveram como consequência um afastamento inferior a 15 dias.</a:t>
            </a:r>
            <a:endParaRPr b="0" lang="en-US" sz="1600" spc="-1" strike="noStrike">
              <a:solidFill>
                <a:srgbClr val="000000"/>
              </a:solidFill>
              <a:latin typeface="Arial"/>
            </a:endParaRPr>
          </a:p>
        </p:txBody>
      </p:sp>
      <p:pic>
        <p:nvPicPr>
          <p:cNvPr id="279" name="Imagem 1" descr=""/>
          <p:cNvPicPr/>
          <p:nvPr/>
        </p:nvPicPr>
        <p:blipFill>
          <a:blip r:embed="rId1"/>
          <a:stretch/>
        </p:blipFill>
        <p:spPr>
          <a:xfrm>
            <a:off x="1992240" y="1033560"/>
            <a:ext cx="8207280" cy="51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1523880" y="6033960"/>
            <a:ext cx="9144000" cy="7797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cidentes do Trabalho com consequência a simples assistência média ou afastamento inferior a 15 dias foram os únicos a apresentar crescimento entre 2016 e 2017</a:t>
            </a:r>
            <a:endParaRPr b="0" lang="en-US" sz="1600" spc="-1" strike="noStrike">
              <a:solidFill>
                <a:srgbClr val="000000"/>
              </a:solidFill>
              <a:latin typeface="Arial"/>
            </a:endParaRPr>
          </a:p>
        </p:txBody>
      </p:sp>
      <p:pic>
        <p:nvPicPr>
          <p:cNvPr id="281" name="Imagem 2" descr=""/>
          <p:cNvPicPr/>
          <p:nvPr/>
        </p:nvPicPr>
        <p:blipFill>
          <a:blip r:embed="rId1"/>
          <a:stretch/>
        </p:blipFill>
        <p:spPr>
          <a:xfrm>
            <a:off x="1668600" y="549360"/>
            <a:ext cx="8854920" cy="55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1523880" y="909720"/>
            <a:ext cx="9144000" cy="504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ea typeface="Arial Unicode MS"/>
              </a:rPr>
              <a:t>INDICADORES DE ACIDENTES DO TRABALH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1523880" y="981000"/>
            <a:ext cx="9144000" cy="555192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Os indicadores de Acidentes do Trabalho publicados no AEAT medem a intensidade de ocorrência dos acidentes de trabalho e a razão de ocorrências mais severas.</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incidência;</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Mortalidad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Letalidad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Acidentalidade Proporcional à Faixa Etária 16 – 34 ano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1523880" y="981000"/>
            <a:ext cx="9144000" cy="280980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 Taxa de Incidência é especificada entre:</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Doenças do Trabalho;</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Típicos;</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Incapacidade Temporária.</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1523880" y="909720"/>
            <a:ext cx="9144000" cy="504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ea typeface="Arial Unicode MS"/>
              </a:rPr>
              <a:t>ESTATÍSTICAS DE ACIDENTES DO TRABALHO</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1523880" y="584028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Todos os indicadores de incidência apresentaram em 2017 os melhores resultados observados da série desde 2013</a:t>
            </a:r>
            <a:endParaRPr b="0" lang="en-US" sz="1600" spc="-1" strike="noStrike">
              <a:solidFill>
                <a:srgbClr val="000000"/>
              </a:solidFill>
              <a:latin typeface="Arial"/>
            </a:endParaRPr>
          </a:p>
        </p:txBody>
      </p:sp>
      <p:sp>
        <p:nvSpPr>
          <p:cNvPr id="286"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dicadores de Acidentes do Trabalho – 2013 a 201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cidências</a:t>
            </a:r>
            <a:endParaRPr b="0" lang="en-US" sz="2400" spc="-1" strike="noStrike">
              <a:solidFill>
                <a:srgbClr val="000000"/>
              </a:solidFill>
              <a:latin typeface="Arial"/>
            </a:endParaRPr>
          </a:p>
        </p:txBody>
      </p:sp>
      <p:pic>
        <p:nvPicPr>
          <p:cNvPr id="287" name="Imagem 2" descr=""/>
          <p:cNvPicPr/>
          <p:nvPr/>
        </p:nvPicPr>
        <p:blipFill>
          <a:blip r:embed="rId1"/>
          <a:stretch/>
        </p:blipFill>
        <p:spPr>
          <a:xfrm>
            <a:off x="2009880" y="1773360"/>
            <a:ext cx="8289720" cy="396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1523880" y="574200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O mesmo ocorreu com as taxas de mortalidade, letalidade e acidentalidade, ao registrarem em 2017 os melhores resultados das séries desde 2013.</a:t>
            </a:r>
            <a:endParaRPr b="0" lang="en-US" sz="1600" spc="-1" strike="noStrike">
              <a:solidFill>
                <a:srgbClr val="000000"/>
              </a:solidFill>
              <a:latin typeface="Arial"/>
            </a:endParaRPr>
          </a:p>
        </p:txBody>
      </p:sp>
      <p:sp>
        <p:nvSpPr>
          <p:cNvPr id="289"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dicadores de Acidentes do Trabalho – 2013 a 201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Taxas de Mortalidade, Letalidade e Acidentalidade</a:t>
            </a:r>
            <a:endParaRPr b="0" lang="en-US" sz="2400" spc="-1" strike="noStrike">
              <a:solidFill>
                <a:srgbClr val="000000"/>
              </a:solidFill>
              <a:latin typeface="Arial"/>
            </a:endParaRPr>
          </a:p>
        </p:txBody>
      </p:sp>
      <p:pic>
        <p:nvPicPr>
          <p:cNvPr id="290" name="Imagem 1" descr=""/>
          <p:cNvPicPr/>
          <p:nvPr/>
        </p:nvPicPr>
        <p:blipFill>
          <a:blip r:embed="rId1"/>
          <a:stretch/>
        </p:blipFill>
        <p:spPr>
          <a:xfrm>
            <a:off x="2567160" y="1909800"/>
            <a:ext cx="7057800" cy="360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1523880" y="836640"/>
            <a:ext cx="9144000" cy="33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ea typeface="Arial Unicode MS"/>
              </a:rPr>
              <a:t>OBRIGADO!</a:t>
            </a:r>
            <a:endParaRPr b="0" lang="en-US" sz="4800" spc="-1" strike="noStrike">
              <a:solidFill>
                <a:srgbClr val="000000"/>
              </a:solidFill>
              <a:latin typeface="Arial"/>
            </a:endParaRPr>
          </a:p>
        </p:txBody>
      </p:sp>
      <p:sp>
        <p:nvSpPr>
          <p:cNvPr id="292" name="CaixaDeTexto 1"/>
          <p:cNvSpPr/>
          <p:nvPr/>
        </p:nvSpPr>
        <p:spPr>
          <a:xfrm>
            <a:off x="119160" y="4941720"/>
            <a:ext cx="8929440" cy="17859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LEXANDRE ZIOLI FERNANDES</a:t>
            </a:r>
            <a:endParaRPr b="0" lang="en-US" sz="2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ordenador-Geral de Estatística, Demografia e Atuária</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r>
              <a:rPr b="1" lang="pt-BR" sz="2400" spc="-1" strike="noStrike">
                <a:solidFill>
                  <a:srgbClr val="000000"/>
                </a:solidFill>
                <a:latin typeface="Arial"/>
              </a:rPr>
              <a:t> </a:t>
            </a:r>
            <a:r>
              <a:rPr b="1" lang="pt-BR" sz="2000" spc="-1" strike="noStrike">
                <a:solidFill>
                  <a:srgbClr val="000000"/>
                </a:solidFill>
                <a:latin typeface="Arial"/>
              </a:rPr>
              <a:t>alexandre.fernandes@previdencia.gov.br</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r>
              <a:rPr b="1" lang="pt-BR" sz="2400" spc="-1" strike="noStrike">
                <a:solidFill>
                  <a:srgbClr val="000000"/>
                </a:solidFill>
                <a:latin typeface="Arial"/>
              </a:rPr>
              <a:t> </a:t>
            </a:r>
            <a:r>
              <a:rPr b="1" lang="pt-BR" sz="2000" spc="-1" strike="noStrike">
                <a:solidFill>
                  <a:srgbClr val="000000"/>
                </a:solidFill>
                <a:latin typeface="Arial"/>
              </a:rPr>
              <a:t>2021-51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3880" y="1628640"/>
            <a:ext cx="9144000" cy="3600720"/>
          </a:xfrm>
          <a:prstGeom prst="rect">
            <a:avLst/>
          </a:prstGeom>
          <a:noFill/>
          <a:ln w="0">
            <a:noFill/>
          </a:ln>
        </p:spPr>
        <p:style>
          <a:lnRef idx="0"/>
          <a:fillRef idx="0"/>
          <a:effectRef idx="0"/>
          <a:fontRef idx="minor"/>
        </p:style>
        <p:txBody>
          <a:bodyPr lIns="108000" rIns="108000" tIns="108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 DO TRABALH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a:t>
            </a:r>
            <a:r>
              <a:rPr b="1" lang="pt-BR" sz="2800" spc="-1" strike="noStrike">
                <a:solidFill>
                  <a:srgbClr val="000000"/>
                </a:solidFill>
                <a:latin typeface="Arial"/>
                <a:ea typeface="Arial Unicode MS"/>
              </a:rPr>
              <a:t>Acidente do trabalho é o que ocorre pelo exercício do trabalho a serviço de empresa ou de empregador doméstico ou pelo exercício do trabalho dos segurados referidos no inciso VII do art. 11 desta Lei, provocando lesão corporal ou perturbação funcional que cause a morte ou a perda ou redução, permanente ou temporária, da capacidade para o trabalho”</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ea typeface="Arial Unicode MS"/>
              </a:rPr>
              <a:t>Art. 19 da Lei nº 8.213/9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523880" y="981000"/>
            <a:ext cx="9144000" cy="440964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do trabalho podem gerar danos aos trabalhadores em diferentes graus de consequência:</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Afastamento temporário da atividade laboral;</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Redução da capacidade para o trabalho;</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Invalidez permanente;</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Óbito.</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1523880" y="981000"/>
            <a:ext cx="9144000" cy="4714560"/>
          </a:xfrm>
          <a:prstGeom prst="rect">
            <a:avLst/>
          </a:prstGeom>
          <a:noFill/>
          <a:ln w="0">
            <a:noFill/>
          </a:ln>
        </p:spPr>
        <p:style>
          <a:lnRef idx="0"/>
          <a:fillRef idx="0"/>
          <a:effectRef idx="0"/>
          <a:fontRef idx="minor"/>
        </p:style>
        <p:txBody>
          <a:bodyPr lIns="108000" rIns="108000" tIns="108000" bIns="36000" anchor="t">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São considerados acidentes do trabalho:</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rajeto – Acidentes ocorridos no trajeto entre residência e local de trabalho (ida ou volta);</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ípico – O que ocorrer com o segurado a serviço da empregadora;</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Doença do Trabalho – A doença ocupacional, incluindo-se nesse conceito a doença profissional e a do trabalh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1523880" y="981000"/>
            <a:ext cx="9144000" cy="5629680"/>
          </a:xfrm>
          <a:prstGeom prst="rect">
            <a:avLst/>
          </a:prstGeom>
          <a:noFill/>
          <a:ln w="0">
            <a:noFill/>
          </a:ln>
        </p:spPr>
        <p:style>
          <a:lnRef idx="0"/>
          <a:fillRef idx="0"/>
          <a:effectRef idx="0"/>
          <a:fontRef idx="minor"/>
        </p:style>
        <p:txBody>
          <a:bodyPr lIns="108000" rIns="108000" tIns="108000" bIns="36000" anchor="t">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Quanto à notificação do acidente de trabalho:</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Com CAT Registrada – houve registro no INSS da Comunicação de Acidentes do Trabalho;</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Sem CAT Registrada – Acidentes do trabalho identificados por meio de perícia por um dos possíveis nexos:</a:t>
            </a:r>
            <a:endParaRPr b="0" lang="en-US" sz="28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Profissional/Trabalho;</a:t>
            </a:r>
            <a:endParaRPr b="0" lang="en-US" sz="24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Epidemiológico Previdenciário (NTEP);</a:t>
            </a:r>
            <a:endParaRPr b="0" lang="en-US" sz="24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por Doença Equiparada a Acidente de Trabalho.</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92240" y="5796000"/>
            <a:ext cx="1180764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Nova queda na quantidade de acidentes do trabalho em 2017: 5,7% com CAT, 8,2% sem CAT e 6,2% no total.</a:t>
            </a:r>
            <a:endParaRPr b="0" lang="en-US" sz="16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 </a:t>
            </a:r>
            <a:r>
              <a:rPr b="1" lang="pt-BR" sz="1600" spc="-1" strike="noStrike">
                <a:solidFill>
                  <a:srgbClr val="000000"/>
                </a:solidFill>
                <a:latin typeface="Arial"/>
                <a:ea typeface="Arial Unicode MS"/>
              </a:rPr>
              <a:t>Maior queda </a:t>
            </a:r>
            <a:r>
              <a:rPr b="1" lang="pt-BR" sz="1600" spc="-1" strike="noStrike">
                <a:solidFill>
                  <a:srgbClr val="000000"/>
                </a:solidFill>
                <a:latin typeface="Wingdings"/>
                <a:ea typeface="Wingdings"/>
              </a:rPr>
              <a:t></a:t>
            </a:r>
            <a:r>
              <a:rPr b="1" lang="pt-BR" sz="1600" spc="-1" strike="noStrike">
                <a:solidFill>
                  <a:srgbClr val="000000"/>
                </a:solidFill>
                <a:latin typeface="Arial"/>
                <a:ea typeface="Arial Unicode MS"/>
              </a:rPr>
              <a:t> Doenças do trabalho com redução de 30,4%</a:t>
            </a:r>
            <a:endParaRPr b="0" lang="en-US" sz="1600" spc="-1" strike="noStrike">
              <a:solidFill>
                <a:srgbClr val="000000"/>
              </a:solidFill>
              <a:latin typeface="Arial"/>
            </a:endParaRPr>
          </a:p>
        </p:txBody>
      </p:sp>
      <p:sp>
        <p:nvSpPr>
          <p:cNvPr id="261"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ACIDENTES DO TRABALHO, COM OU SEM CAT E MOTIVO</a:t>
            </a:r>
            <a:endParaRPr b="0" lang="en-US" sz="2400" spc="-1" strike="noStrike">
              <a:solidFill>
                <a:srgbClr val="000000"/>
              </a:solidFill>
              <a:latin typeface="Arial"/>
            </a:endParaRPr>
          </a:p>
        </p:txBody>
      </p:sp>
      <p:pic>
        <p:nvPicPr>
          <p:cNvPr id="262" name="Imagem 3" descr=""/>
          <p:cNvPicPr/>
          <p:nvPr/>
        </p:nvPicPr>
        <p:blipFill>
          <a:blip r:embed="rId1"/>
          <a:stretch/>
        </p:blipFill>
        <p:spPr>
          <a:xfrm>
            <a:off x="2841480" y="1614600"/>
            <a:ext cx="6508800" cy="41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1530360" y="6093000"/>
            <a:ext cx="914400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Participação relativa de acidentes típicos em 2017 apresentou crescimento, doenças do trabalho teve nova queda.</a:t>
            </a:r>
            <a:endParaRPr b="0" lang="en-US" sz="1600" spc="-1" strike="noStrike">
              <a:solidFill>
                <a:srgbClr val="000000"/>
              </a:solidFill>
              <a:latin typeface="Arial"/>
            </a:endParaRPr>
          </a:p>
        </p:txBody>
      </p:sp>
      <p:sp>
        <p:nvSpPr>
          <p:cNvPr id="264"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DISTRIBUIÇÃO RELATIVA DOS ACIDENTES DO TRABALHO COM CAT, POR MOTIVO – 2015 A 2017</a:t>
            </a:r>
            <a:endParaRPr b="0" lang="en-US" sz="2400" spc="-1" strike="noStrike">
              <a:solidFill>
                <a:srgbClr val="000000"/>
              </a:solidFill>
              <a:latin typeface="Arial"/>
            </a:endParaRPr>
          </a:p>
        </p:txBody>
      </p:sp>
      <p:pic>
        <p:nvPicPr>
          <p:cNvPr id="265" name="Imagem 1" descr=""/>
          <p:cNvPicPr/>
          <p:nvPr/>
        </p:nvPicPr>
        <p:blipFill>
          <a:blip r:embed="rId1"/>
          <a:stretch/>
        </p:blipFill>
        <p:spPr>
          <a:xfrm>
            <a:off x="2424240" y="1649520"/>
            <a:ext cx="7704000" cy="452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eda nos acidentes do trabalho ocorre entre aqueles com ou sem CAT registrada.</a:t>
            </a:r>
            <a:endParaRPr b="0" lang="en-US" sz="1600" spc="-1" strike="noStrike">
              <a:solidFill>
                <a:srgbClr val="000000"/>
              </a:solidFill>
              <a:latin typeface="Arial"/>
            </a:endParaRPr>
          </a:p>
        </p:txBody>
      </p:sp>
      <p:pic>
        <p:nvPicPr>
          <p:cNvPr id="267" name="Imagem 2" descr=""/>
          <p:cNvPicPr/>
          <p:nvPr/>
        </p:nvPicPr>
        <p:blipFill>
          <a:blip r:embed="rId1"/>
          <a:stretch/>
        </p:blipFill>
        <p:spPr>
          <a:xfrm>
            <a:off x="2463840" y="1268280"/>
            <a:ext cx="726444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2T16:57:42Z</dcterms:created>
  <dc:creator>46163212134</dc:creator>
  <dc:description/>
  <dc:language>en-US</dc:language>
  <cp:lastModifiedBy>Silvana do Socorro Machado Rodrigues - MPS</cp:lastModifiedBy>
  <cp:lastPrinted>2018-08-09T18:40:25Z</cp:lastPrinted>
  <dcterms:modified xsi:type="dcterms:W3CDTF">2018-09-26T13:27:33Z</dcterms:modified>
  <cp:revision>686</cp:revision>
  <dc:subject/>
  <dc:title>Demografia</dc:title>
</cp:coreProperties>
</file>